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D4E-2536-44AD-9C6F-1237618D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EA5-AD36-402F-A66A-6356FE53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F8D4-BFF9-46FE-A556-A2CB01EE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7C2-BAA7-476F-897C-DDF94432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6B01-5FFF-420A-8BD5-A22F054D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BD5-0291-4831-93EE-A040F713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444A-450C-4EC6-ADC3-FEC4B53B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E96-C523-4648-9201-37465ED1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5CC4-107B-4C60-8AF2-09DC8ED7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3E0-A44C-4401-89C3-6AE5D9D3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AFC-93EA-4675-A8EC-56AECAB1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9439-7712-4BF8-B7DE-60B46FC2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93661-8A9E-443F-A958-1CEF58BA2F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3A838-9CE3-4A68-8FFF-799A9E7E6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eries circuit or a parallel circui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eries circuit or a parallel circui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eries circuit or a parallel circui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he bulbs light up in a closed circui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the bulbs light up in an open circui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bulb goes out in a series circuit, will the other bulbs stay li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a circuit, the battery can be used as the ______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Power 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Resis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Conducting p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S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a circuit, the wire can be used as the ______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Power 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Resis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Conducting p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S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a circuit, a light bulb can be used as the ______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Power 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Resis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Conducting p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Swi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batteries are in this dia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light bulbs are in this dia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switches are in this dia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batteries are in this dia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light bulbs are in this dia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switches are in this dia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diagram below, if bulb A burns out, which of the bulbs will still l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eries circuit or a parallel circui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eries circuit or a parallel circui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eries circuit or a parallel circui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eries circuit or a parallel circui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eries circuit or a parallel circui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batteries are in this dia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light bulbs are in this dia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any switches are in this diagr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2:00:37Z</dcterms:created>
  <dc:creator>Caroline Roth</dc:creator>
  <dc:description/>
  <dc:language>en-US</dc:language>
  <cp:lastModifiedBy>Caroline Roth</cp:lastModifiedBy>
  <cp:lastPrinted>2011-01-27T04:14:08Z</cp:lastPrinted>
  <dcterms:modified xsi:type="dcterms:W3CDTF">2011-02-07T03:51:11Z</dcterms:modified>
  <cp:revision>6</cp:revision>
  <dc:subject/>
  <dc:title>Slide 1</dc:title>
</cp:coreProperties>
</file>